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E1F-3C09-470C-906C-4ADE181C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D60-4214-4D1C-B684-DD39B768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ED4-B953-464A-BB56-F34FD742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D79-557D-4F20-B672-38B5E979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B29A-5C0D-41E4-AF3F-94086F88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7F0A-69BA-4B66-93C0-414C0353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738-9DA4-4248-9A85-61F4DC79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2857-ED64-4B89-B0BE-4AE401D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82A8-DCCF-4B52-9EA6-EEABE8F3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D8AA-0008-4DE3-940A-F02C4735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2845-897A-4068-8662-9207FFA8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0A9-22B1-444C-832C-96A5771F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C21F-45A1-4D68-9097-6D8E90B8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ACD-8FBC-4A08-B186-6391FA2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399A-CAB6-4EBB-9E51-94D4EF39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33E-BC94-42B0-BF7F-AF753C20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4039-9297-470F-A4EC-FDA03929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347-C043-4CE2-89E9-5BBCFAD3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596-B645-427F-9C21-C1C2EBE6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CAE-2AE1-466D-A90B-F798DA21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047-A60A-4F55-BB33-A4F972F4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67F-96CC-4899-869D-99B14CC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809-94F1-49D9-9CB2-0725DA4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14F-5FE1-456A-8CBB-75BB41F0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2FFA-CDC9-4718-BC54-4A6303AAF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806-DB3C-4E6F-AF8F-A913CA132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caa.vic.edu.au/vce/studies/physicaledu/EnrgSys.pdf" TargetMode="External"/><Relationship Id="rId2" Type="http://schemas.openxmlformats.org/officeDocument/2006/relationships/hyperlink" Target="http://www.exrx.net/ExInfo/EnergyGraphs.html%20Accessed%20October%2018" TargetMode="External"/><Relationship Id="rId3" Type="http://schemas.openxmlformats.org/officeDocument/2006/relationships/hyperlink" Target="http://www.exrx.net/ExInfo/EnergyGraphs.html%20Accessed%20October%2018" TargetMode="External"/><Relationship Id="rId4" Type="http://schemas.openxmlformats.org/officeDocument/2006/relationships/hyperlink" Target="http://www.exrx.net/ExInfo/EnergyGraphs.html%20Accessed%20October%2018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Arial"/>
              </a:rPr>
              <a:t>Energy Systems Interpla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Energy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65360" y="1600200"/>
            <a:ext cx="5811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High Intensity Compe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3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Energy Graph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xrx.net/ExInfo/EnergyGraph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Energy System Interpla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338120" y="762120"/>
            <a:ext cx="71964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Application Ques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dentify a period of active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Justify your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scribe the physiological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ccurring during this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position is this player likely to be playing? Give reasons for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Application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Why does the average speed of world records decre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-   Consider the rate of energy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Distance (Freestyle)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5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0:21.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0:47.8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2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:44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4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3:40.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8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7:39.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5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4:34.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How does the interplay of energy systems differ for a 100m swim event in comparison to a 100m sprint event?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EVENT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m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:09.7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00m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:43.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Interplay of the aerobic and anaerobic energ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483876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40320" y="623736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VCCA exam revie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caa.vic.edu.au/vce/studies/physicaledu/EnrgSy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vcaa.vic.edu.au/vce/studies/physicaledu/EnrgSy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cessed October 18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exrx.net/ExInfo/EnergyGraphs.html</a:t>
            </a: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cessed October 18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15:55Z</dcterms:created>
  <dc:creator>Russell Simpson</dc:creator>
  <dc:description/>
  <dc:language>en-US</dc:language>
  <cp:lastModifiedBy>Russell Simpson</cp:lastModifiedBy>
  <dcterms:modified xsi:type="dcterms:W3CDTF">2010-10-20T09:15:32Z</dcterms:modified>
  <cp:revision>6</cp:revision>
  <dc:subject/>
  <dc:title>Slide 1</dc:title>
</cp:coreProperties>
</file>